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6.png" ContentType="image/png"/>
  <Override PartName="/ppt/media/image7.pct" ContentType="image/x-pict"/>
  <Override PartName="/ppt/media/image10.jpeg" ContentType="image/jpeg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67A-2DEA-43E6-9C00-855E3E9F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CF4-E554-4027-9618-B270A94B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F1E-7546-4819-9E60-1FF7C69E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05A-34FF-4817-A6DF-8F34C70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C3D-564A-462E-AB8E-4AB757AC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15A-5E0C-4583-AE8F-97688E7D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3E6-669A-4176-A8C4-C08365F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5C2-DCB8-4C4D-BB35-26F72B7B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C03-6B40-4D25-9143-7838D07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55C-4CC7-42DB-8CF4-E6D161D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E2F-BD8B-4AB5-9A7C-1BD69A87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5AC-AB24-433D-A420-9D20189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E312-9E8B-4A41-80EF-33028F8B2550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image" Target="../media/image2.png"/><Relationship Id="rId5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9.xm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d121"/>
                    </a:gs>
                  </a:gsLst>
                  <a:lin ang="5400000"/>
                </a:gradFill>
                <a:latin typeface="Impact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d1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60573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PEH: Review Quiz #4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160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Pope Paul IV called to order this 16th century church council which reaffirmed traditional Catholic doctrine and sought to eradicate Church abus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75248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t the First Vatican Council, he established the doctrine of papal infallibilit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2767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16th century pope issued the papal bull for Martin Luther's excommunic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86080" y="106668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harcoal"/>
              <a:ea typeface="Charco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Pope John XXIII was influential in calling to order this 20th century church council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leader of the Nazis introduced the anti-Semitic Nuremberg Laws in 1935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25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 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9652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Political dissidents of this Georgian-born Soviet dictator were often sent to the Gulag, or Soviet penal camp system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Spanish artist Pablo Picasso fled Spain to avoid living under the rule of this fascist generalissimo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bloody nature of his political downfall was unusual in the velvet revolutions of 1989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360"/>
            <a:ext cx="6477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Serbian leader undertook a policy of "ethnic cleansing" against Yugoslav Bosnian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676520"/>
            <a:ext cx="35812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long with his handlebar mustache, he came to power in the Revolutions of 1848 in Fran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0" r="9239" b="0"/>
          <a:stretch/>
        </p:blipFill>
        <p:spPr>
          <a:xfrm>
            <a:off x="5200560" y="1066680"/>
            <a:ext cx="2725920" cy="411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 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851120"/>
            <a:ext cx="3352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Italian nationalist was known as "The Brain" of Italian unific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33720" y="1066680"/>
            <a:ext cx="3097080" cy="400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041560"/>
            <a:ext cx="3352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midst the Dreyfus Affair, he published "J'Accuse.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2762280" cy="3657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65240"/>
            <a:ext cx="2895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From the House of Savoy, he became unified Italy's first king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203560" y="1295280"/>
            <a:ext cx="2825640" cy="3505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0160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219320"/>
            <a:ext cx="43434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chief minister to Nicholas II sought to modernize the Russian military and increase industrial productivity in the years from 1905 to 1911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8348" t="0" r="9597" b="3329"/>
          <a:stretch/>
        </p:blipFill>
        <p:spPr>
          <a:xfrm>
            <a:off x="1522440" y="1143000"/>
            <a:ext cx="2635200" cy="351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idea of John Calvin's taught that God elected the saved prior to birth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Often carried out in 19th century Russia, these were attacks on Jewish settlement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1929 agreement between Mussolini and the papacy established Vatican City as an independent state inside the city of Rom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leader of the Jewish Enlightenment was an advocate of religious toler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5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 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20th century movement sought to reconcile doctrinal differences and establish better relations among different religion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DEFENESTRATION OF PRAGU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rty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ears’ War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pe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uthless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ictator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storic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cial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air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ligion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tpourri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1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4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GUSTAVUS ADOLPHU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CALVIN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4382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ALBRECHT VON WALLENSTE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5146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FREDERICK OF THE PALATINA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is MR. POP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COUNCIL OF TREN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PIUS IX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LEO X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SECOND VATICAN COUNCI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ADOLF HITLE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Thirty Years' War began with this 1618 event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JOSEF STAL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25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 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FRANCISCO FRANCO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NICOLEAU CEAUSESCU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SLOBODAN MILOSEVIC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LOUIS NAPOLEON BONAPAR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GIUSEPPE MAZZIN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EMILE ZOL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VICTOR IMMANUEL I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PETER STOLYP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048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 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PREDESTINATI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 devout Lutheran, this Swedish leader sought to gain control of the Baltic grain trad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POGROM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the LATERAN PACT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MOSES MENDELSSOH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ECUMENICAL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eography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1" name="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3" name="Untitled:Jeopardy! Folder:Jeopardy Template:think.mp3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6" name="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342036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se two (2) straits connect the Black Sea to the Mediterranean Sea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2" name=""/>
          <p:cNvSpPr/>
          <p:nvPr/>
        </p:nvSpPr>
        <p:spPr>
          <a:xfrm>
            <a:off x="757368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at are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6" name=""/>
          <p:cNvSpPr/>
          <p:nvPr/>
        </p:nvSpPr>
        <p:spPr>
          <a:xfrm>
            <a:off x="343080" y="28188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the Bosporous and Dardenelles?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1648 Treaty of Westphalia––which ended the Thirty Years' War––added this religion to the 1555 settlement at Augsburg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shrewd businessman and brilliant general was on two occasions the leader of the Catholic forc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Before suffering defeat at the 1620 Battle of White Mountain, he was the leader of the Protestant Un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He teaches physical education and Health at New Hartford Sr. High School in New Hartford, New York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Danielle Walters</cp:lastModifiedBy>
  <cp:lastPrinted>2002-11-04T22:12:16Z</cp:lastPrinted>
  <dcterms:modified xsi:type="dcterms:W3CDTF">2005-04-30T00:20:17Z</dcterms:modified>
  <cp:revision>504</cp:revision>
  <dc:subject/>
  <dc:title>No Slide Title</dc:title>
</cp:coreProperties>
</file>